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46279557"/>
        <c:axId val="9731764"/>
      </c:barChart>
      <c:catAx>
        <c:axId val="46279557"/>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9731764"/>
        <c:crosses val="autoZero"/>
        <c:auto val="1"/>
        <c:lblAlgn val="ctr"/>
        <c:lblOffset val="100"/>
        <c:noMultiLvlLbl val="0"/>
      </c:catAx>
      <c:valAx>
        <c:axId val="9731764"/>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46279557"/>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4B31F-EC1B-477A-9165-A50826D3C4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9A7C9-4611-497C-BAE4-DDEB6CE11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F8D18-4D0E-49E9-924A-946AEB62D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B905C-3D6A-403C-B0AA-9882F8F3E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EE6682-9BA7-463F-B743-82CB250F1F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FA643-E9F6-43FF-BDB8-75582F0B91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84EACA-2DF2-413A-BB8B-3B646E4A2C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369604-4A73-44C6-8CA8-DAB2C9164B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624F65-6284-4EBD-916F-B298AF1E7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EACDB4-D550-4A81-ABA3-7BE6A1FB3B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4F81F-24CD-4302-9045-F9C071F0F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590BD-B3DE-4831-802D-53FAC640F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17C79-42E6-4712-815D-40ED61931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0F356-A612-4090-B779-1020B42D7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F63B8D-FFA9-49E2-ABC6-625E568286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8B32E1-B35B-4567-9246-FE5A17FAEA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E3CFCB-59AD-4B25-80D3-797FBE52FB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B5127-3E3B-4563-9DCA-5DAAC711A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BA241-EE83-4F4A-B8E1-8B2556C59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17D0A-A577-4C1A-A5F6-28C5AF45B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5EE6E-8219-45CF-8658-51005F2C4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BE5F5-C8F5-4804-96D6-A36B34A30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C89A6-B362-4CB2-8773-3A5BCCA9F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A6D15-2990-49C0-A3DB-9857260F92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AA5F7C-F24B-4843-9580-BA0BFFC3323A}"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D3B205-29AA-452C-AC3C-51B067F585E0}"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